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310-1F1C-4364-BA4B-A373119F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06F-CC09-463D-BF85-70C23C5B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550-6BF7-486A-B782-D00A76D9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B40-59DC-4D4A-BA83-1CCC862A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AF23-3EBC-4854-A9E6-6B35DE03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F66-1949-4715-AB3A-DEE605F0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B9DC-5EA6-4DC2-AD40-1CF6A60C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2A1-3B4D-499C-B638-C2559BBC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61F-BFBC-4EE8-A14E-EBBC5D07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00C-87C4-4589-A609-168D4392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7AC-931E-4355-83F9-8E3767B4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813-7EBE-41B4-BC81-1C70B4AA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7B15-4155-4D89-9279-121E70115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aszloa@witch.pmmf.hu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zgazdaságtan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ntárgy kód: PMKMENE 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redit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vközi követelmény: nin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v végi követelmény: szóbeli vizs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egy kialakítás szempontjai: az alapvető fogalmak és összefüggések ismerete, megér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rodalo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amuelson–Nordhaus: Közgazdaságtan I.-II. KJK 1990. (tanköny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óth Lajos: Közgazdaságtan (kari jegyz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őadás vázlat (oktatási segédlet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esztor tanszék: Mérnöki Menedz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adó: dr. László Antal főiskolai doc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érhetősége: B 105. sz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hu-H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aszloa@witch.pmmf.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észletes információk (tematika, ellenőrző kérdések stb.): witch\oktatás\tanszeki anyagok\mernoki menedzsment tanszek\oktatoi informaciok\laszlo antal\kozgazdasagtan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áztart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égső fogyasztó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rőforrások alapvető tulajdonos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énzforgalmi szemléletben gazdálkod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gazdaság legfontosabb megtakarító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Üzleti szervez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javak előállító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rőforrások felhasználó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Üzletszerűen gazdálkod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egtakarítások alapvető felhasználó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rmány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talommegosz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zjavak biztos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azdaság szabályo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énzforgalmi szemléletben gazdálkod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Nem kormányzati szervez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atalom ellensúlyozása (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határozott közjavak szolgálta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ajátos értékek képvise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pvetően nem üzletszerűen gazdálkodnak (N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ülfö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n - az adott nemzetgazdaságra gazdasági hatással bíró - magánszemély, háztartás, üzleti szervezet, kormányzati intézmény vagy nem kormányzati szerveződés, ami az adott nemzetgazdaságon - földrajzi vagy tulajdoni értelemben - kívül v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rőforr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26560" y="1341000"/>
            <a:ext cx="7993080" cy="4713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Csoportosításu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rmész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unkaer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ő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Jellemző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űkösen állnak rendelkezésre és alternatív módon használhatók f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ermészeti erőforr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rmészeti erőforrásoknak nevezzük azokat a természeti-földrajzi adottságokat, amelyeket a társadalom - a mindenkori fejlettségi szintjén- sajátos tulajdonságaikból kifolyólag, az anyagi szükségleteinek kielégítésére hasznosí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oportosításu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újuló erőforr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gyó erőforr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éb természeti erőforr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egújuló természeti erőforr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ritikus zóna kockázata nélk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ap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eotermikus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él, légkö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íz, vízi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ngeráramlatok, hullámzás, ár-ap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omass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ritikus zóna kockázatán belüli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övényvil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latvil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vóví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rmőta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ogyó természeti erőforr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használással elfogyaszthat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sszilis energiahordozók (szén, kőolaj, földgá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sadóanyag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c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szín alatti viz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vileg újrahasznosítható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rcből előállított fém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emi és nem fémes ásv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gyéb természeti erőforr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ermészet, mint tér, a település, az infrastruktúra, a telephely befogadó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ermészet hulladékbefogadó képessé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rekreációs adottság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áj, és a környez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Közgazdaságtan I.</a:t>
            </a:r>
            <a:br>
              <a:rPr sz="40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gazdasági alap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özgazdaságtan tárgya, a gazdaság szereplői, erőforrások, javak, gazdasági körforg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ozamok és ráfordítások összefüggése, a csökkenő hozadék törvénye, a termelési lehetőségek határa, a haszonáldozati költség értelmezése, a növekvő relatív költségek törvénye, a komparatív előnyök elmé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gazdaság megszerveződésének lehetséges típus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piac fogalma, a piaci hatékonysá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iaci alapfogalmak: kereslet, kínálat, egyensúly és egyensúlytalanságok, a piaci mechanizmus működé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piaci rugalmasság értelmezése, a kereslet és a kínálat rugalmassága, gyakorlati jelentősé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unkaer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unkaerő az ember azon képessége, hogy valamilyen meghatározott célszerű tevékenységet tud végez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unkaerő mennyiségi szempontból létszám, munkaidő, munkaintenzit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unkaerő minőségi szempontból szakképzettség, munkatapasztalat, munkakultú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ő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őke technikai és pénzügyi erőforrások összessé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őke, mint technika mennyiségi szempontból termelő kapacitás, minőségi szempontból korszerűsé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őke, mint pénz mennyiségi szempontból egy meghatározott pénzösszeg, minőségi szempontból átválthatósá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Jav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alamilyen szükségletet kielégítő hasznos dolg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Csoportosításu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rmészeti javak-mesterséges jav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ruk-szolgáltat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gyasztási javak-felhalmozási (beruházási) jav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gánjavak-közjav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zitív javak (goods)- negatív javak (ba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gazdaság, mint rends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gazdaság a társadalom azon vetülete, ahol a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hatékonysá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fo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gazdaság körfolyam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rőforrások felhasználásával javakat állítanak el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avak felhasználásával az erőforrásokat újraterme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fogyasztási javak felhasználásával a munkaerőt termelik újj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beruházási javak felhasználásával a tőkét termelik újj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ogalma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elhasznált erőforrásokat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ráfordításo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ak nevezzü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előállított javak a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hozam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hatékonysá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hozamok és a ráfordítások viszo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ráfordítás pénzforgalmi szemléletben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kiadá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teljesítmény szemléletben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hozam pénzforgalmi szemléletben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evétel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teljesítmény szemléletben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árbevé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Gazdasági körforg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rőforrások felhaszná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avak előáll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avak felhaszná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rőforrások újraterme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547640" y="220500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4140360" y="1989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6084720" y="2205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084720" y="4581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3995640" y="5157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1547640" y="4581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pénzforgalmi és a teljesítmény szemlélet különbsége 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vállalkozás egy hónap alatt az általa kötött szerződések teljesítésével összefüggésben az alábbi számlákat bocsátotta k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00eFt+Á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80eFt+Á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50eFt+Á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ónap során csak a 2. számú számlájának ellenértékét kapta meg a vállalkoz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Kérdés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nnyi volt az adott hónapban a vállalkozás árbevétele és a pénzbevéte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pénzforgalmi és a teljesítmény szemlélet különbsége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Árbevét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: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00eFt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80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50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sszesen: 330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Pénzbevét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80eFt+ÁFA=100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pénzforgalmi és a teljesítmény szemlélet különbsége I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állalkozás az adott hónapban, az árbevétel megszerzésével összefüggésben két számlát fogadot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60eFt + Á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40eFt + Á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dott hónapban, vállalkozásunk csak a második számlát fizette ki, ugyanakkor a használatában lévő tárgyi eszközei után 100eFt amortizációt (értékcsökkenési leírást) számolt 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Kérdés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nnyi volt az adott hónapban a vállalkozás költsége és pénzkiadá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pénzforgalmi és a teljesítmény szemlélet különbsége I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Költsé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60 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40 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100 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00 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Pénzkiad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40eFt + ÁFA = 50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lőzőeket figyelembe véve az adott hónapban a vállalkozás eredménye és pénzforgalmi egyenlege a következőképpen alakul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Eredmén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rbevétel:  330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Költség:     200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yereség:  130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Pénzforgalmi egyenl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nzbevétel: 100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Pénzkiadás:    50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nz készlet: +50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Közgazdaságtan I.</a:t>
            </a:r>
            <a:br>
              <a:rPr sz="40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matika (folytat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kroökonóm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áztartások optimális dönté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sznosságelmélet, fogyasztói egyensúly, fogyasztói többlet értelmezése a hasznosság kardinális megközelítésé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özömbösségi görbék és a költségvetési egyenes fogalma, jellemző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ogyasztói egyensúly értelmezése a hasznosság ordinális megközelítésé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övedelemváltozás és az árváltozás hatása a fogyasztói döntésekre. A keresleti függvény származtatá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Közgazdaságtan I.</a:t>
            </a:r>
            <a:br>
              <a:rPr sz="40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matika (folytat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kroökonó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üzleti szervezetek optimális döntése a közönséges javak kompetitív piac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sszbevétel és határbevé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ltségelmélet: összköltség, átlagköltség és határkölt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optimális döntés értelmezé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dezeti pont és üzembezárási pont, a kínálati függvény származtatá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háztartások vásárlási valamint az üzleti szervezetek eladási szándékainak hatása a piaci árra és annak visszahatása a háztartások illetve az üzleti szervezetek döntése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Közgazdaságtan I.</a:t>
            </a:r>
            <a:br>
              <a:rPr sz="40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matika (folytat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kroökonó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üzleti szervezetek optimális döntése a közönséges javak monopolizált piac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onopolhelyzetek kialakulásának o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iaci formák és szerkezet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összbevételi és a határbevételi függvény sajátosságai monopólium eset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onopólium optimális döntése. A monopólium okozta vesztesé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ermészetes monopóliumok szabályoz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Közgazdaságtan I.</a:t>
            </a:r>
            <a:br>
              <a:rPr sz="40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matika (folytat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kroökonóm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üzleti szervezetek optimális döntése a termelési tényezők piac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ermelés elmélete, parciális termelési függvény, határtermék függvény, numerikus termelési függvé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isoquant és az isocost függvények jellemző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optimális döntés értelmezé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zgazdaság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zgazdasági alap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zgazdaságtan tárg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özgazdaságtan, annak tanulmányozásával foglalkozik, hogy a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gazdaság szereplői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miként választják meg a szűkösen rendelkezésre álló, alternatív módon felhasználható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erőforráso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alkalmazását, annak érdekében, hogy 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javaka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állítsanak elő, és azokat elosszák a jelenlegi és a jövőbeni fogyasztásuk céljábó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gazdaság szereplő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áztart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Üzleti szervez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ormányz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kormányzati szervez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ülfö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4:47:18Z</dcterms:created>
  <dc:creator>dr. László Antal</dc:creator>
  <dc:description/>
  <dc:language>en-US</dc:language>
  <cp:lastModifiedBy>dr. László Antal</cp:lastModifiedBy>
  <dcterms:modified xsi:type="dcterms:W3CDTF">2010-02-15T12:22:06Z</dcterms:modified>
  <cp:revision>45</cp:revision>
  <dc:subject/>
  <dc:title>Közgazdaságtan</dc:title>
</cp:coreProperties>
</file>